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3033-87B4-40AC-A3D7-B5D9CBAC5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3439-1FA2-413E-BA67-879D4AC0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DE24-CB74-429C-A520-3AB3961A0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7297-F4BC-4D38-914E-E828D32D3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38AD-5EA6-4CDB-A1E6-0A8B1792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F858-673D-4994-B2A1-CC04D71D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A76D-5C12-400B-B972-22BDAF9A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C0E7-24B4-4C35-9C9E-43445B29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43D2-B417-4DA5-898B-0C583475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15D9-6752-4F3C-A765-8D8885DD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97AC-3C4A-4346-97BF-1D56C3E3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0FDB-C023-4FE1-A262-A5195106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00D8-95F7-4766-9971-357A89AD7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5791320" cy="5348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" y="601992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6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he partitioning of observed scores into true and error compon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1:54:05Z</dcterms:created>
  <dc:creator>Andrew Hayes, Statistical Methods for Communication Science</dc:creator>
  <dc:description/>
  <dc:language>en-US</dc:language>
  <cp:lastModifiedBy>Andrew Hayes and Carole Lunney</cp:lastModifiedBy>
  <dcterms:modified xsi:type="dcterms:W3CDTF">2005-04-09T10:55:35Z</dcterms:modified>
  <cp:revision>2</cp:revision>
  <dc:subject/>
  <dc:title>Slide 1</dc:title>
</cp:coreProperties>
</file>