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777-3172-46C3-AE6C-1F987AD6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6B7-B584-43D9-9A9D-2587A55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6E0-346D-4EBF-A9FE-9895EB1D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9AF-20FE-4F8B-8DDE-64AA416A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3A3-6D06-4281-B516-F4C445D4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C61-8FB6-47F6-83D2-1E2AF903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6AA-320F-4E96-86C6-E3686A5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BB9-72E2-4E4E-80D8-0C2817E1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D0E-85B8-4842-84AA-9242B9F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AFF-1E34-4343-AA15-D5E38CF0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81C-10D6-4591-8144-6A44D719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851-A53F-4547-8B68-8EAC9DBE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B466-E275-4A84-9152-7D3832871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873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60958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cal representation of interaction and lack of inte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715000" cy="4921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57150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10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 output from a hierarchical multiple regress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interaction between political talk radio exposu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y ident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19920" cy="481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57150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1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phical representation of the interactio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talk radio exposure and political party self-identification in estimating political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4716360" cy="518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58672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12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different median split points on study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243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4952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ANOVA summary table from a 2 X 2 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data in Rable 1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368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4952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gression output corresponding to a 2 X 2 ANOVA of the data in Table 1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03680" cy="579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601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NOVA summary table (A) and 2 X 2 ANOVA 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analysis (B) using the data in Table 16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176880" cy="451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571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catterplot of the relationship between self-esteem and self discl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624360" cy="4854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57150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moderated multiple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self-disclosure from alcohol condition, self-este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i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95880" cy="487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71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visual representation of the interactio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esteem and alcohol consumption on self-discl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167160" cy="493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56386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moderated multiple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self-disclosure from blood alcohol content, self-esteem, and their inte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719600" cy="5056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080" y="5715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6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 graphical representation of the interactio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alcohol content and self-esteem in estimating self-discl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22:14:46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1:15:41Z</dcterms:modified>
  <cp:revision>8</cp:revision>
  <dc:subject/>
  <dc:title>Slide 1</dc:title>
</cp:coreProperties>
</file>