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D2DB-E93C-4378-B240-94C83A429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E953-6C1F-4169-8EED-481E35E86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667C-82D0-4A7C-B1FB-9F31B04D1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103E-F7F9-45A8-B0B4-B69EECCF3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80DF-918D-4289-9FF4-2BB0A4FC6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BF35-5898-4B28-9D0C-E0A5AD791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AC33-7982-4C44-ABB5-DFF247414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561C-55F2-408F-BE3A-4DE521D5C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FD2E-25BE-4487-9C77-E20E18764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264C-D205-4C45-BA0D-C8482755E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7B6F-BA09-447C-8F49-D9D648114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2346-0F32-45AD-A5C0-B8217B17A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C7725-4176-4D0A-9180-3F39377502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057400" y="457200"/>
            <a:ext cx="4876920" cy="50338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986480" y="5943600"/>
            <a:ext cx="535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13.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A three-dimensional regression pla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295280" y="457200"/>
            <a:ext cx="6172200" cy="4734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075320" y="5562720"/>
            <a:ext cx="6910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13.10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SS output from a hierarchical multiple regr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imating political knowledge first from demographics and polit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est, and then adding communic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295280" y="609480"/>
            <a:ext cx="6172200" cy="50450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983240" y="6019920"/>
            <a:ext cx="447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13.11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et of quadratic func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752480" y="380880"/>
            <a:ext cx="5437440" cy="53452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762120" y="6019920"/>
            <a:ext cx="76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13.12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ng a curvilinear relationship with linear regres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981080" y="457200"/>
            <a:ext cx="4705560" cy="51055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762120" y="586728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13.13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elationship between predictor variable intercorrelation and standard error infl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8167680" cy="3645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149840" y="5257800"/>
            <a:ext cx="683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13.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rcorrelations between demographics and polit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nowledge (from SP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295280" y="380880"/>
            <a:ext cx="6413760" cy="53722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994680" y="5943600"/>
            <a:ext cx="66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13.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SPSS output from a multiple regression estima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itical knowledge from demographic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09480" y="533520"/>
            <a:ext cx="3429000" cy="22683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648320" y="490680"/>
            <a:ext cx="4114800" cy="23968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609480" y="3505320"/>
            <a:ext cx="3494160" cy="25826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348800" y="4419720"/>
            <a:ext cx="428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13.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Some processes That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duce a relationship betwee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7848720" cy="18892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843120" y="4952880"/>
            <a:ext cx="734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13.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SPSS output from a simple regression estimating resid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itical knowledge from residual political discussion, partialing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spaper u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304920"/>
            <a:ext cx="7925040" cy="50958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000080" y="5715000"/>
            <a:ext cx="668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13.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SPSS output from a multiple regression estima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itical knowledge from newspaper use and political discus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666880" y="228600"/>
            <a:ext cx="3660840" cy="53341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529280" y="5791320"/>
            <a:ext cx="585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13.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A Venn diagram illustrating the relation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tween simple, partial, and semipartial correl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838080" y="990720"/>
            <a:ext cx="7620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un MATRIX procedu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riterion Vari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k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C3 Heteroscedasticity-Consistent Regression 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(OLS)    SE(HC3)        t       P&gt;|t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nstant    7.0819     .4864    14.5604      .0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pnews       .4054     .0802     5.0521      .0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discuss     .5594     .0849     6.5863      .0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----- END MATRIX 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4280" y="5410080"/>
            <a:ext cx="744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13. 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Output from an SPSS macro for OLS regression using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C3 standard error estimat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057400" y="304920"/>
            <a:ext cx="4889520" cy="52578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529640" y="5943600"/>
            <a:ext cx="578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13.9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A Venn diagram depicting the relationsh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tween sets of variab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7T13:24:19Z</dcterms:created>
  <dc:creator>Andrew Hayes, Statistical Methods for Communication Science</dc:creator>
  <dc:description/>
  <dc:language>en-US</dc:language>
  <cp:lastModifiedBy>Andrew Hayes and Carole Lunney</cp:lastModifiedBy>
  <dcterms:modified xsi:type="dcterms:W3CDTF">2005-04-09T11:07:01Z</dcterms:modified>
  <cp:revision>7</cp:revision>
  <dc:subject/>
  <dc:title>Slide 1</dc:title>
</cp:coreProperties>
</file>