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67B-ECA4-4DE8-94E9-4B216300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091-E292-45E1-BFE2-1A8E0E28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360-E007-48A3-9A97-EE397F41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CCF-F5EA-4F6B-8571-12254267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E63-30A9-4307-8501-4C0E213B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9C8-7137-4C54-8F02-D621B845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E77-7869-4C2D-920F-2AD5F00F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FB3-A7E0-4A87-B7AB-214F4362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BB3-F0E5-4A72-B3E8-6E01F263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DF5-21E6-4450-8F5A-5ED917DE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C550-3515-40A2-8691-A974BA26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166-18D0-4A62-A7D6-CCDE3E30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8CBC-11E3-48A4-8AF6-855C6EA4A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095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9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alue for a one (A) and two-tailed (B) hypothesis 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50641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648320" cy="259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4572000" cy="2604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59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9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critical value approach to deriv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(A) and two-tail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5840" y="5562720"/>
            <a:ext cx="52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9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a one sam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5438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91160" cy="3133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1800" y="5141880"/>
            <a:ext cx="66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9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ne-sam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st output comparing pre-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debate evaluations of George B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70280" y="5257800"/>
            <a:ext cx="69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9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paired sam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st output comparing Pre-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debate evaluations of George Bu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9:31:13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0:58:35Z</dcterms:modified>
  <cp:revision>7</cp:revision>
  <dc:subject/>
  <dc:title>Slide 1</dc:title>
</cp:coreProperties>
</file>