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EF4-A1B1-47D9-8A1D-8AB888EF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2FB-C3ED-4F0A-86D2-10889CD3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525-B0B2-4877-9BA9-BC40CA21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17F-B0F5-4F47-96C9-4334A0B1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59D-79DF-48CE-8F44-4827AAD3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23F-17EA-4197-8909-91C45FAE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89B-FF5D-4300-A40A-5F0129FF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2EC-3B16-45E2-922D-3FF370E7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2F7-2CA6-40CD-B7FE-7C9E62B7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495-24D1-447C-B6AB-3FEC71F0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7BC-0471-4D3B-A55C-A44D57AF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AC1-F999-4092-A5D6-92050922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9774-280F-47AF-B4FB-A7488B85C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400800" cy="5052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56200" y="5562720"/>
            <a:ext cx="61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5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hierarchical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ng political knowledge from political discuss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both discussion and political party ident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38600" cy="526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4520" y="5943600"/>
            <a:ext cx="81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5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Venn diagram illustrating the relationship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422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7640" y="54100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5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NCOVA summary table and adjusted means from SP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156200" cy="518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23760" y="5715000"/>
            <a:ext cx="709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5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hierarchical regression estim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knowledge from communication and demographics and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political party ident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50022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4880" y="5867280"/>
            <a:ext cx="80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5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 Venn diagram illustrating the relationship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70720" cy="465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0120" y="5638680"/>
            <a:ext cx="71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5.6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of controlling for a covariate correla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come but unaffected by (B) or affected by (C) an 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794560" cy="3826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62080" y="56386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5.7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aphical depiction of medi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21:10:41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1:11:01Z</dcterms:modified>
  <cp:revision>5</cp:revision>
  <dc:subject/>
  <dc:title>Slide 1</dc:title>
</cp:coreProperties>
</file>