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961-EF70-47A3-BDA3-CDC1B1EE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8FA-2368-403D-99EA-7931AAFA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004-3729-4F70-AE0C-DF7F4FFC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512-5DC9-4D28-B8C5-B80D94CC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479-D8E6-4461-A0F9-48E1288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0C5-1F80-4BAC-89BB-278EE25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63A-A79F-41E2-9B5B-C30FA40A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C6F-2593-4150-BE54-719AA6F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3BC-4E58-4239-B3EF-BE04FA9B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9EA-440D-488B-834B-1CC3F81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F81-2186-4762-B54F-96635D4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954-73BA-4949-B3E0-AAB22DD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ED1A-3770-47B1-B8F8-10712B9B5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2268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7840" y="6095880"/>
            <a:ext cx="40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.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ersus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0:47:49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1:15Z</dcterms:modified>
  <cp:revision>2</cp:revision>
  <dc:subject/>
  <dc:title>Slide 1</dc:title>
</cp:coreProperties>
</file>