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2652-2CE8-4DA7-8B00-28C970320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89CB-152C-47F5-9F7D-3F98277E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6E51-495E-429D-984F-5379AAD7E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B1AB-91B7-4456-826E-7628F7D72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EDE3-A99F-4E35-855A-1E86F762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E23E-104F-4885-813B-7262F6B6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F21D-4EC0-4F73-B5D3-50B8B33B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F6D9-3E5A-47D7-A174-5AC3C7A2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14B7-A1F8-4954-8FE8-68FD84CB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1B60-7DB3-4720-83A0-B9A8C259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2BA2-D7B2-42EB-8045-143F1403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20A9-6499-4F0B-AEB8-9AF974FC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674D-4E42-4564-974E-AB4420814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25000" cy="5175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2120" y="579132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8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Computing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value is a simple normal probability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85920" y="685800"/>
            <a:ext cx="6570720" cy="5029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28800" y="60958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8.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Possible hypothesis test outc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12:10:19Z</dcterms:created>
  <dc:creator>Andrew Hayes, Statistical Methods for Communication Science</dc:creator>
  <dc:description/>
  <dc:language>en-US</dc:language>
  <cp:lastModifiedBy>Andrew Hayes and Carole Lunney</cp:lastModifiedBy>
  <dcterms:modified xsi:type="dcterms:W3CDTF">2005-04-09T10:57:02Z</dcterms:modified>
  <cp:revision>2</cp:revision>
  <dc:subject/>
  <dc:title>Slide 1</dc:title>
</cp:coreProperties>
</file>