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229-EBAB-4338-A9AC-BDE5F15F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6A6-4564-4B6F-B850-6D689F11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DCE-714E-4A27-A5E1-6010FE76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61D-E3EE-4E19-8E63-1570EC00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FB9-D992-4233-B999-7261504C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8CE-DE48-4555-80B9-CBFA6E5D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B5F-B84D-4A53-985E-61026A0C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897-FCFB-4CB4-9F90-8629C8B3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80B-FCA3-4A94-8070-AAA2A6C7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D48-A265-487F-811F-633C79AC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7A7-DC13-480C-AF03-70D93680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CDF-A452-4746-814F-0E9AA381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994F-2179-4779-A5A4-9EF18F32A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943600" cy="499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69880" y="5791320"/>
            <a:ext cx="44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1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mpling distrib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58000" cy="3647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88680" y="5418000"/>
            <a:ext cx="54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1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critic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 for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05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757680" cy="3700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8320" y="838080"/>
            <a:ext cx="3735360" cy="3700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6000" y="5410080"/>
            <a:ext cx="59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1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output from two goodness of fit te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033880" cy="5288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02120" y="5867280"/>
            <a:ext cx="62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1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output from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st of indepen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367600" cy="5410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8880" y="5896080"/>
            <a:ext cx="66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1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output from a test of independence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ion type and stat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9:09:34Z</dcterms:created>
  <dc:creator>Andrew Hayes, Statistical Methods for Communication Science</dc:creator>
  <dc:description/>
  <dc:language>en-US</dc:language>
  <cp:lastModifiedBy>Andrew Hayes and Carole Lunney</cp:lastModifiedBy>
  <dcterms:modified xsi:type="dcterms:W3CDTF">2005-04-09T11:00:40Z</dcterms:modified>
  <cp:revision>4</cp:revision>
  <dc:subject/>
  <dc:title>Slide 1</dc:title>
</cp:coreProperties>
</file>