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782-31E5-4600-85C6-EC2C2E3A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0DA-553B-4CB4-A7DC-88C7837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787-81AB-4352-A1A2-82F8A06F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D7A-AB83-4CFF-940B-08132803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E73-9472-467C-8376-F57B328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F1-5723-460B-8473-8023396F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07A-E4F5-4873-ADD1-66117487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3DF-6740-4C45-8D7C-EFC85A8F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20B-59F9-4109-8F7E-329F3BC5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E0B-D055-458D-9029-5AF2839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ECD-305F-42B0-A622-F913073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EC6-083D-4323-BBDE-D56475B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55B-B7C4-41FB-AA7F-38905660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59160" cy="548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1722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data set as it might appear as an SPSS dat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0:50:35Z</dcterms:created>
  <dc:creator>Andrew Hayes, Statistical Methods for Communication Science</dc:creator>
  <dc:description/>
  <dc:language>en-US</dc:language>
  <cp:lastModifiedBy>Andrew Hayes and Carole Lunney</cp:lastModifiedBy>
  <dcterms:modified xsi:type="dcterms:W3CDTF">2005-04-09T10:50:58Z</dcterms:modified>
  <cp:revision>2</cp:revision>
  <dc:subject/>
  <dc:title>Slide 1</dc:title>
</cp:coreProperties>
</file>