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D60-57FD-4DE5-9D01-03963F5A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E7B-7366-4537-B953-1B149E8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B8F-F71D-474B-A1AF-4D6ECA54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069-E598-488B-81F3-0881409B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7CA-3658-49C7-8C7B-7E5100E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101-1958-4AA5-8FB3-791DDC30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E11-3303-4CD7-AFBD-976AB80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30D-7CB3-4989-90DC-17A1D3FF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64C-B6E2-4022-9939-448AA06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9F4-3004-44E5-9877-DEA7A39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4F6-2E4C-4798-87C6-292333C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5B6-C0EB-4224-B37F-2C9EC3E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106-BC1B-4928-8CC4-FDCF7220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5715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0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output for the independent group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1662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5320" y="685800"/>
            <a:ext cx="5301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un MATRIX proced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*** BOOTSTRAP TWO GROUP MEAN DIFFERENCE 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tain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an        SD          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 1    3.6071    2.5242    168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 2    2.5056    1.9434    178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tained Mean Difference (Mean 1 - Mea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.1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TSTRAP 95% CONFIDENCE INTERVAL FOR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95%CI    Hi95%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5785     1.5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TSTRAP P-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-tail p    .0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-p     .0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ft-p   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51880" y="556272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0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Macro output for bootstrapping the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the mean dif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0592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1640" y="51814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0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st output from the news learning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9:31:13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9:33Z</dcterms:modified>
  <cp:revision>9</cp:revision>
  <dc:subject/>
  <dc:title>Slide 1</dc:title>
</cp:coreProperties>
</file>