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1AC-3085-4D7A-87A7-AA456756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CC7-EC95-42EE-842D-5AA40AB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68D-7AB6-4D09-B319-5FC2E1AF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D52-0B4E-4334-8DCE-81C15ABC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B85-BEC9-4D6C-A037-615EA1F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C0F-A5E8-4F2B-8081-48C392D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19B-8B4B-44D1-B6BE-067FF2B6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999-34C4-4881-B901-8E9C0215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BC3-88E9-4974-ABAD-2EB83FD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683-D4AD-4B30-B264-CBCE461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B32-A1B9-4BBF-B272-BB3E21A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E31-93DC-4724-A8F1-240B5BF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C17-D78F-4BCF-9928-DC73BD24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7836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6600" y="6095880"/>
            <a:ext cx="50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entral Limit Theorem in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496040" cy="235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343400" cy="223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4343400" cy="22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79132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ing the probability of obtaining certain sample m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7480" y="5181480"/>
            <a:ext cx="59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scriptive statistics for the Cornell po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96160" cy="500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560" y="571500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369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1320" y="52578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the Explor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2:04:36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6:34Z</dcterms:modified>
  <cp:revision>4</cp:revision>
  <dc:subject/>
  <dc:title>Slide 1</dc:title>
</cp:coreProperties>
</file>