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146-6DE9-4A86-9D75-5458BD14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F18-6584-4CCF-8197-40B3AF0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254-F102-47A9-869A-043BC3EA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749-710B-423E-A281-429E1AEB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CFE-5E04-4737-AAF9-8371A20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195-FFE9-435B-A97F-EDC8C9B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3B8-4613-45F5-9120-15ECD53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ED3-AE4A-467D-867E-E421E9C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83F-6A75-4B67-A094-AD10019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CE-A5D1-4C65-A142-ADECD66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A28-0B82-442E-B3A6-14C77C8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E92-C603-4D37-B628-6AFF823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2FB-9493-463B-86EB-A7BE81E11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089680" cy="518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6920" y="5943600"/>
            <a:ext cx="49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histogram of the TV view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535640" cy="513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9760" y="6019920"/>
            <a:ext cx="59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amples of distributions of different sha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019920" cy="455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6200" y="571500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scriptive statistics from SPSS for the TV view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94360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2880" y="5715000"/>
            <a:ext cx="47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box plot of the TV view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03884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038480" cy="344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2578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catterplots depicting the relationship between TV viewing and body mass (A) and between TV viewing and television 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384440" cy="566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4160" y="609588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rrelations of various strengths and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86520" cy="585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248520"/>
            <a:ext cx="80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 descriptive statistics for comparing males and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0:56:37Z</dcterms:created>
  <dc:creator>Andrew Hayes, Statistical Methods for Communication Science</dc:creator>
  <dc:description/>
  <dc:language>en-US</dc:language>
  <cp:lastModifiedBy>Measurement and Simulation Lab</cp:lastModifiedBy>
  <dcterms:modified xsi:type="dcterms:W3CDTF">2005-04-18T13:48:29Z</dcterms:modified>
  <cp:revision>7</cp:revision>
  <dc:subject/>
  <dc:title>Slide 1</dc:title>
</cp:coreProperties>
</file>