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482-D642-435E-87E2-71922BE5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C4B-9E9D-44A0-8F50-CC3BEC46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896-2BD0-43F3-ABDA-2BDCB846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0EB-2B50-431A-8BC4-16011D6F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72D-C9BE-43BB-B92E-E5EC1897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24F-42C6-4D42-89B6-0B9FB57E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248-EAAF-424E-810D-375F758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974-DDFF-46C2-AD55-6D923492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2ED-8B69-4FEF-8738-6C107D2B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300-FA83-4393-8137-0E8ABAD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11B-1973-4D49-AA66-D176A8F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BA5-B076-4EE1-84FD-2730AFB6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DE77-7E53-442B-A22E-6ACAE7A98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49878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52960" y="5715000"/>
            <a:ext cx="62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2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scatterplot depicting the relationship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 and political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324840" cy="486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93000" y="5715000"/>
            <a:ext cx="74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2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ree linear equations and their graphical represen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558040" cy="534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95400" y="5867280"/>
            <a:ext cx="69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2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a simple linear regression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4975200" cy="4924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7200" y="5867280"/>
            <a:ext cx="70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graphical depiction of the linear regression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506920" cy="517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23640" y="5867280"/>
            <a:ext cx="618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regression and residual component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64804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43120" y="5867280"/>
            <a:ext cx="76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2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me examples of homoscedasticity and heteroscedasti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0680" y="1066680"/>
            <a:ext cx="745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un MATRIX 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iterio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C3 Heteroscedasticity-Consistent Regress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(OLS)    SE(HC3)          t      P&gt;|t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ant    -2.6674     1.3613    -1.9594      .05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DUC          .9722      .0959    10.1419      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 END MATRIX 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5334120"/>
            <a:ext cx="78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2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put from an SPSS macro for OLS regression using the H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error estim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609480"/>
            <a:ext cx="5715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un MATRIX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s: DV = bmi IV =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tained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      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t         .1568    .50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(Obt)     .0405    .13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g(two)    .0001    .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pproximate Permutation Te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wo-tail    .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= Obt      .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&lt; Obt      .9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ber of Permut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 END MATRIX 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680" y="609588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2.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put from the SPSS permutation tes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809880" cy="3098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3038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3886200" cy="3097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029200" y="3505320"/>
            <a:ext cx="990720" cy="1090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51920" y="541008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2.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mbinations of levera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, and 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02:46:28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1:02:50Z</dcterms:modified>
  <cp:revision>5</cp:revision>
  <dc:subject/>
  <dc:title>Slide 1</dc:title>
</cp:coreProperties>
</file>