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112-AB44-4DC2-9D96-1B860FF5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3C1-CC61-4E5B-93C1-4830ABFC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9EB-B3D3-46B7-A3E2-F7F7739C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089-8B8C-482F-AB7F-E2FA90C5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734-35A8-4B40-8F00-1CD5E6A8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6B5-7577-415D-8BDD-F7B82857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D1F-A86E-4E20-90DE-F09380C5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1E9-E05B-4BDC-9519-71F552E0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AAC-D3B1-4B31-AB3C-586862D1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615-83C0-4E38-9601-7DA6AB48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C3D-9645-4AAD-980B-70438711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0CF-5815-41F5-87EF-3EA4ADC8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8097-B2C0-48A3-A149-C9DA0D7F4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581880" cy="504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1280" y="594360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4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output from a single factor ANO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985000" cy="4635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4800" y="5943600"/>
            <a:ext cx="67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4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ANOVA output from the Sundar (2000) stu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380880"/>
            <a:ext cx="6095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un MATRIX proced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oup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       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.0000       8.3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.0000       8.08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.0000       6.3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.0000       6.41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.0000       5.7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ults of Approximate Randomization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      p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.3830        .00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of randomizations 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 END MATRIX 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0958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4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macro output for a randomization test equivalent of ANO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5800" cy="47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19320" y="57913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4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put from a focused contrast test in SP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323040" cy="4748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5715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4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gression analysis estimating political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party affili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19:47:24Z</dcterms:created>
  <dc:creator>Andrew Hayes, Statistical Methods for Communication Science</dc:creator>
  <dc:description/>
  <dc:language>en-US</dc:language>
  <cp:lastModifiedBy>Andrew Hayes and Carole Lunney</cp:lastModifiedBy>
  <dcterms:modified xsi:type="dcterms:W3CDTF">2005-04-09T11:08:20Z</dcterms:modified>
  <cp:revision>4</cp:revision>
  <dc:subject/>
  <dc:title>Slide 1</dc:title>
</cp:coreProperties>
</file>