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B54-7AE2-4519-B591-C2EB25D3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F52-9959-4290-A8C5-8F17B229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C35-EF5A-416E-A16A-27216313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F42-0D8F-4F02-A83A-EB5535BD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30A-D41B-485C-9389-BBCF0770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470-CEDE-4031-8D9B-D6B1FCA8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901-20F8-47B8-A0AA-E47345E9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46A-772B-4EE0-8281-F466D94B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654-9E00-4871-B239-21C2B61F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BAE-48DF-4412-A5E5-EF11023B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3DC-6F27-4ED9-88A2-2BB121E6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CB1-507E-4D8F-97A9-3D3D103A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9A62-F732-4E42-A81E-29AB0E31B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3783240" cy="479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4800" y="5715000"/>
            <a:ext cx="44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classroom of thirty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167680" cy="376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8000" y="556272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normal dis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443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69040" y="579132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68-95-99.7 r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4523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5400" y="563868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proportion of measurements more than on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ation from the mean of a normally distributed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436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8640" y="5638680"/>
            <a:ext cx="71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proportion of measurements less than on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ation above the mean and no more than 1.75 standard dev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the mean of a normally distributed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9240" y="5638680"/>
            <a:ext cx="65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tting up a problem to solve for percentile sc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1:37:35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0:55:09Z</dcterms:modified>
  <cp:revision>3</cp:revision>
  <dc:subject/>
  <dc:title>Slide 1</dc:title>
</cp:coreProperties>
</file>